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3760" y="-14400"/>
            <a:ext cx="1018224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73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oosevelt’s Diploma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2189160" y="1808280"/>
            <a:ext cx="600228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oosevelt’s Diploma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intaining peace in Asia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ig Stick” diplomacy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anama Canal begun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oosevelt Corollary to the Monroe Doctrine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11-01T19:12:55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